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2EA-04C0-4DAB-B5A9-6F4E1DC0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96B-CA31-4B75-9426-ABC2C914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E61-FC1D-4DA5-B633-4DB9FE58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64D-6C8F-42C1-B02C-D4DC7499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169-E813-4BF9-B6B1-38978AB5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962-A018-4E25-9714-86895640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360-4A52-4693-8ECC-1638C593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098-2B27-4DB3-8738-FCE24C3A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4CD-9F8B-44B2-BE61-9A637143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FE1-7276-4E60-AE62-908BD4E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4B5-379A-4194-9C26-A9828C0F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4DB-EB00-4FB4-B513-BA0A08ED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AB10-5E73-4D8E-8D9D-594EEF1BA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557360"/>
            <a:ext cx="82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350028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anti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4941720"/>
            <a:ext cx="66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ing anti or against something.  The opposi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413000"/>
            <a:ext cx="2374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8000"/>
                </a:solidFill>
                <a:latin typeface="Arial"/>
              </a:rPr>
              <a:t>ant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8000"/>
                </a:solidFill>
                <a:latin typeface="Arial"/>
              </a:rPr>
              <a:t>a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380360" y="260280"/>
            <a:ext cx="1116000" cy="2976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364000" y="1557360"/>
            <a:ext cx="836640" cy="160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84720" y="1700280"/>
            <a:ext cx="1366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Sue</cp:lastModifiedBy>
  <dcterms:modified xsi:type="dcterms:W3CDTF">2007-04-21T19:29:27Z</dcterms:modified>
  <cp:revision>32</cp:revision>
  <dc:subject/>
  <dc:title>Simile</dc:title>
</cp:coreProperties>
</file>